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B33-E3E4-42A0-AD51-68F45205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7D4-B07F-42AE-AE00-54DA9602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FAD3-A789-41B4-9C0E-EA3C7FA1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A4B-07F4-4989-B1B6-A1617619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8FF4-97A9-47A5-AC93-886C7070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29F-0A76-4FC0-92B3-E86CBD5E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9BB-3349-480D-ADDC-D05A05A6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7B1-5255-4095-8F5C-3427BEDD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7E9-A871-4C61-A018-CA4F2E8C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D5D-7D63-4A37-8740-424898D1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883-75DB-4D58-B690-2D44F4FC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71E-6BF0-495F-96EE-BE5F9342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76C3-9D86-470D-9109-0CE403AA1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ultures of Nu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Nisha M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hel Ch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17:09Z</dcterms:created>
  <dc:creator>Default</dc:creator>
  <dc:description/>
  <dc:language>en-US</dc:language>
  <cp:lastModifiedBy>Default</cp:lastModifiedBy>
  <dcterms:modified xsi:type="dcterms:W3CDTF">2009-01-09T17:17:48Z</dcterms:modified>
  <cp:revision>2</cp:revision>
  <dc:subject/>
  <dc:title>The Cultures of Nubia</dc:title>
</cp:coreProperties>
</file>